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E865-0D97-48FB-88B7-27AB4686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B288-28C9-4EDE-9448-2926CFCC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B293-8E9F-4E04-AFA4-F4BA6070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B115-3467-4923-8533-D25673BE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A5F2-B160-41B0-9DDA-59955A98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A3DD-C08E-4654-861A-93963CE5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277A-7B63-4810-AAC1-BE19B6E0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1FE5-AC7C-4640-AE7A-02E41BC1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1890-8F51-4D90-A7D6-BD2228EF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5220-1000-43D5-9CC1-390D1FC1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22D5-1E2A-4750-97C0-0E65B326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F093-EA03-4228-AFB2-7D0D2CC8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37D4-9D92-4CBA-949B-AFF898CD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B47C-AEE1-4C8C-8639-8F20F1B2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140A-0743-4873-A7E3-A9C6FA4C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8787-4BCB-422A-9CA7-C4BC9AC0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1D55-3ED3-4893-9C1F-BD441468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97357-C419-489D-A191-29EACF49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48759-7DEA-4A4C-A565-F6D70B15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1AF3E-4C20-45B8-A84F-5E87A2B9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71AC8-C9C7-4AF8-B71B-762FEDC1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4BE20-4B0F-49E5-B8C9-74D194AD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4A64-E44B-458F-AD13-CDF0A410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6CA0D-02A3-4386-A8B8-809775B0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54D99-88E2-4381-9C88-85FD7B00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08E16-8DC0-4B96-A4CA-523F9434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9F167-7BEA-4E7E-BF5D-DA93FFC4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86A96-733D-49BB-8FDD-3D89892D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16DCF-C688-4D16-A416-7CEEF95F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8E54F-4549-4FBC-A63C-A8085517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C34A-99C6-4278-A8C1-8C021CB7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07EF-84C0-47D9-A18F-120B7A12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20C80-C80B-43E1-80C8-CA0F2E30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349CF-636B-44DC-9AC3-E7C81691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37E7-119B-4DE0-8CF8-A8AB051A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60EF-1DA0-46DE-9ED5-59363FBD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88000" y="6237360"/>
            <a:ext cx="23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6594-552B-428F-A168-46322ECEAD5D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-2815560" y="3291480"/>
            <a:ext cx="5905440" cy="2746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3200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6D54-1DAE-451B-BC30-9B5C90544EB0}" type="slidenum"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body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dt" idx="3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6324480" y="228600"/>
            <a:ext cx="2552760" cy="1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000066"/>
                    </a:gs>
                  </a:gsLst>
                  <a:lin ang="10800000"/>
                </a:gradFill>
                <a:latin typeface="Arial"/>
              </a:rPr>
              <a:t>Ministère des Affaires étrangères - DSI</a:t>
            </a:r>
            <a:endParaRPr b="0" lang="en-US" sz="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000066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95280" y="1413000"/>
            <a:ext cx="8497800" cy="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Logo_Hornet_bitmap_500x348x128c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672840" cy="468360"/>
          </a:xfrm>
          <a:prstGeom prst="rect">
            <a:avLst/>
          </a:prstGeom>
          <a:ln w="0">
            <a:noFill/>
          </a:ln>
        </p:spPr>
      </p:pic>
      <p:sp>
        <p:nvSpPr>
          <p:cNvPr id="1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37D3-3DF0-4CD2-ACAF-C5013ADDE135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308640"/>
            <a:ext cx="896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666699"/>
                </a:solidFill>
                <a:latin typeface="Tahoma"/>
                <a:ea typeface="Times New Roman"/>
              </a:rPr>
              <a:t>Ce document est la propriété du Ministère des Affaires étrangères et ne peut être ni divulgué ni copié sans son autorisation. Les citations doivent mentionner la source.</a:t>
            </a:r>
            <a:r>
              <a:rPr b="0" lang="en-US" sz="1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8604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Logo_Hornet_bitmap_500x348x128c" descr=""/>
          <p:cNvPicPr/>
          <p:nvPr/>
        </p:nvPicPr>
        <p:blipFill>
          <a:blip r:embed="rId2"/>
          <a:stretch/>
        </p:blipFill>
        <p:spPr>
          <a:xfrm>
            <a:off x="6948360" y="115920"/>
            <a:ext cx="2070360" cy="1441440"/>
          </a:xfrm>
          <a:prstGeom prst="rect">
            <a:avLst/>
          </a:prstGeom>
          <a:ln w="0">
            <a:noFill/>
          </a:ln>
        </p:spPr>
      </p:pic>
      <p:pic>
        <p:nvPicPr>
          <p:cNvPr id="77" name="logo_MAE-BD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1738080" cy="1798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9953-D996-425F-8AC6-FE4BACEB5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Intitulé de la prés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187440" y="448308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Sous-titres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Lieu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Date de la présentation – version x.y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Présentateu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itr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iveau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iveau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iveau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iveau 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iveau 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ésentation du 8 février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4:20:04Z</dcterms:created>
  <dc:creator/>
  <dc:description/>
  <cp:keywords>Hornet Modele de présentation</cp:keywords>
  <dc:language>en-US</dc:language>
  <cp:lastModifiedBy>Sébastien PERCIER</cp:lastModifiedBy>
  <dcterms:modified xsi:type="dcterms:W3CDTF">2012-09-28T13:52:37Z</dcterms:modified>
  <cp:revision>27</cp:revision>
  <dc:subject/>
  <dc:title>Modèle de présentation PowerPoint</dc:title>
</cp:coreProperties>
</file>